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91A2-C59F-48C5-AD64-06AA87E5C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Έργα με Δαπάνες &gt; 80% του προϋπολογισμού του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Έργα με Δαπάνες &gt; 80% του προϋπολογισμού του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Έργα με Δαπάνες &gt; 80% του προϋπολογισμού του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Έργα με Δαπάνες &gt; 80% του προϋπολογισμού του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Έργα με Δαπάνες &gt; 80% του προϋπολογισμού του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849F-8C8A-4C32-B56B-79519284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C3FE-D499-469A-9B2B-A6BAD6D8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2A89-2702-4239-B79B-75001664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6DBE-E186-41FE-8FF0-6524F556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2D46-DE01-44A8-B578-FE751F44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96F2-C2F1-428D-9B1B-321F5EE9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894E-4629-491E-A2E5-F9D42C51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E5B1-B88E-4CC7-BF7E-4B31704A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E0F8-9640-40AB-A097-242BF10D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3896-D646-4137-8CC2-F411DC00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22D7-EA55-4D7F-B449-D043BEBD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C07D-0FCB-451E-B7E1-41E72BD1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A557-FB4A-414D-95DA-B9DB2D366089}" type="datetime">
              <a:rPr b="0" lang="el-G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47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933F-105D-4AFC-A7F8-B17C5B757498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F12B-0F76-4DE5-B905-415AAB024DA2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62FC-04E2-4D9B-BB4C-A36E5A29AD1A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900000" y="312840"/>
          <a:ext cx="7786800" cy="6208560"/>
        </p:xfrm>
        <a:graphic>
          <a:graphicData uri="http://schemas.openxmlformats.org/drawingml/2006/table">
            <a:tbl>
              <a:tblPr/>
              <a:tblGrid>
                <a:gridCol w="3402000"/>
                <a:gridCol w="4384800"/>
              </a:tblGrid>
              <a:tr h="11332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- 8. Βασικά έργα υποδομή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9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Έργα επέκτασης και αναβάθμισης των ενεργειακών υποδομών της χώρα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7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έργα Φυσικού Αερίου ΔΔ 150 εκ. €</a:t>
                      </a:r>
                      <a:br>
                        <a:rPr sz="1400"/>
                      </a:b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(5 Μεγάλα Έργα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2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έργα ηλεκτρισμού ΔΔ 100 εκ. €</a:t>
                      </a:r>
                      <a:br>
                        <a:rPr sz="1400"/>
                      </a:b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(1 μεγάλο έργο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2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Έργα συμπλήρωσης /αναβάθμισης τουριστικών και πολιτιστικών υποδομώ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20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έργα σε τουριστικές και πολιτιστικές υποδομές (αρχαιολογικοί χώροι, μουσεία, καταφύγια τουριστικών σκαφών, αξιοποίηση δημόσιων τουρ. Ακινήτων, κλπ)     (ΔΔ 260 εκ. €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4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Δράσεις εξοικονόμησης ενέργειας σε κατοικίες και ΟΤ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47.769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νοικοκυριά επωφελούνται για την υλοποίηση παρεμβάσεων εξοικονόμησης ενέργειας σε κατοικίε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Για την εξοικονόμηση στις κατοικίες έχουν δεσμευτεί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548 εκ. € ΔΔ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δάνεια και άμεσες ενισχύσεις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98.800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νοικοκυριά αντικατέστησαν 140.000 ενεργοβόρες συσκευές κλιματισμού (46,5 εκ. €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Έργα Εξοικονόμησης ενέργειας σε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04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ημοτικά κτίρια (ΔΔ 80 εκατ. €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5205-A1AC-400B-92EC-F4E0630097A3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8"/>
          <p:cNvSpPr/>
          <p:nvPr/>
        </p:nvSpPr>
        <p:spPr>
          <a:xfrm>
            <a:off x="1116000" y="5950080"/>
            <a:ext cx="727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417cb1"/>
                </a:solidFill>
                <a:latin typeface="Arial"/>
                <a:ea typeface="Arial"/>
              </a:rPr>
              <a:t>(</a:t>
            </a:r>
            <a:r>
              <a:rPr b="0" lang="en-US" sz="1200" spc="-1" strike="noStrike">
                <a:solidFill>
                  <a:srgbClr val="417cb1"/>
                </a:solidFill>
                <a:latin typeface="Arial"/>
                <a:ea typeface="Arial"/>
              </a:rPr>
              <a:t>*</a:t>
            </a:r>
            <a:r>
              <a:rPr b="0" lang="el-GR" sz="1200" spc="-1" strike="noStrike">
                <a:solidFill>
                  <a:srgbClr val="417cb1"/>
                </a:solidFill>
                <a:latin typeface="Arial"/>
                <a:ea typeface="Arial"/>
              </a:rPr>
              <a:t>) Υλοποιούνται από την ΕΥΔ ΕΠΑΕ στο πλαίσιο </a:t>
            </a:r>
            <a:r>
              <a:rPr b="0" lang="el-GR" sz="1200" spc="-1" strike="noStrike" u="sng">
                <a:solidFill>
                  <a:srgbClr val="417cb1"/>
                </a:solidFill>
                <a:uFillTx/>
                <a:latin typeface="Arial"/>
                <a:ea typeface="Arial"/>
              </a:rPr>
              <a:t>εκχώρησης</a:t>
            </a:r>
            <a:r>
              <a:rPr b="0" lang="el-GR" sz="1200" spc="-1" strike="noStrike">
                <a:solidFill>
                  <a:srgbClr val="417cb1"/>
                </a:solidFill>
                <a:latin typeface="Arial"/>
                <a:ea typeface="Arial"/>
              </a:rPr>
              <a:t> από το ΕΠ Εθνικό Αποθεματικό Απροβλέπτων </a:t>
            </a:r>
            <a:r>
              <a:rPr b="0" lang="en-US" sz="1200" spc="-1" strike="noStrike">
                <a:solidFill>
                  <a:srgbClr val="417cb1"/>
                </a:solidFill>
                <a:latin typeface="Arial"/>
                <a:ea typeface="Arial"/>
              </a:rPr>
              <a:t>(</a:t>
            </a:r>
            <a:r>
              <a:rPr b="0" lang="en-US" sz="1200" spc="-1" strike="noStrike" u="sng">
                <a:solidFill>
                  <a:srgbClr val="417cb1"/>
                </a:solidFill>
                <a:uFillTx/>
                <a:latin typeface="Arial"/>
                <a:ea typeface="Arial"/>
              </a:rPr>
              <a:t>113 </a:t>
            </a:r>
            <a:r>
              <a:rPr b="0" lang="el-GR" sz="1200" spc="-1" strike="noStrike" u="sng">
                <a:solidFill>
                  <a:srgbClr val="417cb1"/>
                </a:solidFill>
                <a:uFillTx/>
                <a:latin typeface="Arial"/>
                <a:ea typeface="Arial"/>
              </a:rPr>
              <a:t>εκ. €</a:t>
            </a:r>
            <a:r>
              <a:rPr b="0" lang="en-US" sz="1200" spc="-1" strike="noStrike">
                <a:solidFill>
                  <a:srgbClr val="417cb1"/>
                </a:solidFill>
                <a:latin typeface="Arial"/>
                <a:ea typeface="Arial"/>
              </a:rPr>
              <a:t>) </a:t>
            </a:r>
            <a:r>
              <a:rPr b="0" lang="el-GR" sz="1200" spc="-1" strike="noStrike">
                <a:solidFill>
                  <a:srgbClr val="417cb1"/>
                </a:solidFill>
                <a:latin typeface="Arial"/>
                <a:ea typeface="Arial"/>
              </a:rPr>
              <a:t>και το ΕΠ Ανάπτυξη Ανθρώπινου Δυναμικού</a:t>
            </a:r>
            <a:r>
              <a:rPr b="0" lang="en-US" sz="1200" spc="-1" strike="noStrike">
                <a:solidFill>
                  <a:srgbClr val="417cb1"/>
                </a:solidFill>
                <a:latin typeface="Arial"/>
                <a:ea typeface="Arial"/>
              </a:rPr>
              <a:t> (</a:t>
            </a:r>
            <a:r>
              <a:rPr b="0" lang="en-US" sz="1200" spc="-1" strike="noStrike" u="sng">
                <a:solidFill>
                  <a:srgbClr val="417cb1"/>
                </a:solidFill>
                <a:uFillTx/>
                <a:latin typeface="Arial"/>
                <a:ea typeface="Arial"/>
              </a:rPr>
              <a:t>22 </a:t>
            </a:r>
            <a:r>
              <a:rPr b="0" lang="el-GR" sz="1200" spc="-1" strike="noStrike" u="sng">
                <a:solidFill>
                  <a:srgbClr val="417cb1"/>
                </a:solidFill>
                <a:uFillTx/>
                <a:latin typeface="Arial"/>
                <a:ea typeface="Arial"/>
              </a:rPr>
              <a:t>εκ</a:t>
            </a:r>
            <a:r>
              <a:rPr b="0" lang="en-US" sz="1200" spc="-1" strike="noStrike">
                <a:solidFill>
                  <a:srgbClr val="417cb1"/>
                </a:solidFill>
                <a:latin typeface="Arial"/>
                <a:ea typeface="Arial"/>
              </a:rPr>
              <a:t>.</a:t>
            </a:r>
            <a:r>
              <a:rPr b="0" lang="el-GR" sz="1200" spc="-1" strike="noStrike">
                <a:solidFill>
                  <a:srgbClr val="417cb1"/>
                </a:solidFill>
                <a:latin typeface="Arial"/>
                <a:ea typeface="Arial"/>
              </a:rPr>
              <a:t> €</a:t>
            </a:r>
            <a:r>
              <a:rPr b="0" lang="en-US" sz="1200" spc="-1" strike="noStrike">
                <a:solidFill>
                  <a:srgbClr val="417cb1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006560" y="476280"/>
          <a:ext cx="7632720" cy="5340240"/>
        </p:xfrm>
        <a:graphic>
          <a:graphicData uri="http://schemas.openxmlformats.org/drawingml/2006/table">
            <a:tbl>
              <a:tblPr/>
              <a:tblGrid>
                <a:gridCol w="3967200"/>
                <a:gridCol w="3665520"/>
              </a:tblGrid>
              <a:tr h="100656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 </a:t>
                      </a: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Σχέδια για στήριξη επιχειρηματικότητας και ενίσχυσης απασχόλησης και για την προσαρμοστικότητα εργαζομένων και επιχειρήσεων (ΕΚΤ) 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Ολοκληρωμένο Σχέδιο Παρέμβασης για τη στήριξη της επιχειρηματικότητας και της απασχόλησης (Στήριξη πρωτοβουλιών ανέργων και νέων επιχειρηματιών, Συμβουλευτική και κατάρτιση σε  επιχειρήσεις και παροχή κινήτρων για δημιουργία απασχόληση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3.1</a:t>
                      </a:r>
                      <a:r>
                        <a:rPr b="1" lang="en-US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60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επιχειρηματικά σχέδια, </a:t>
                      </a:r>
                      <a:br>
                        <a:rPr sz="1400"/>
                      </a:b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0</a:t>
                      </a:r>
                      <a:r>
                        <a:rPr b="1" lang="en-US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2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εκ. € (Δ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Ολοκληρωμένη παρέμβαση για τη στήριξη της γυναικείας απασχόλησης μέσω ενίσχυσης της επιχειρηματικότητας </a:t>
                      </a:r>
                      <a:br>
                        <a:rPr sz="1400"/>
                      </a:b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Ίδρυση νέων επιχειρήσεων, Στήριξη υφιστάμενων και νεοιδρυθεισών επιχειρήσεω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.</a:t>
                      </a:r>
                      <a:r>
                        <a:rPr b="1" lang="en-US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834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επιχειρηματικά σχέδια, </a:t>
                      </a:r>
                      <a:br>
                        <a:rPr sz="1400"/>
                      </a:b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5</a:t>
                      </a:r>
                      <a:r>
                        <a:rPr b="1" lang="en-US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7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εκ. € (Δ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ράσεις άμεσης παρέμβασης (επαναπροσανατολισμός, κατάρτιση πιστοποίηση), για απολυμένους και απειλούμενους με ανεργί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2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ράσεις με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6.500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ωφελούμενου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 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33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εκ. € (ΔΔ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ράσεις για την προσαρμοστικότητα εργαζομένων και επιχειρήσεων (</a:t>
                      </a:r>
                      <a:r>
                        <a:rPr b="0" lang="el-GR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κατάρτιση/ επανακατάρτιση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εργαζομένων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4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ράσεις με σύνολο ωφελουμένων </a:t>
                      </a:r>
                      <a:br>
                        <a:rPr sz="1400"/>
                      </a:b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27.000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ργαζόμενους και εποχιακά </a:t>
                      </a:r>
                      <a:br>
                        <a:rPr sz="1400"/>
                      </a:b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άνεργους,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8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εκ. € (Δ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3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A20D-DF53-4009-87D7-1BCDDBFE7BB0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1D57-999B-432D-8BB0-3BF8915AD4C9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5F02-DFEA-4FB9-8C9A-702102609866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042920" y="404280"/>
            <a:ext cx="76471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Κυριότερα Αποτελέσματα από δράσεις ΕΤΠ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50000"/>
              </a:lnSpc>
              <a:spcBef>
                <a:spcPts val="451"/>
              </a:spcBef>
              <a:spcAft>
                <a:spcPts val="1800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Υποστήριξη παραγωγικών επενδύσεων με προτεραιότητα την προώθηση της εξωστρέφειας, της καινοτομίας και της πράσινης ανάπτυξης σε μεταποίηση, τουρισμό, εμπόριο-υπηρεσίες (πάνω από 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  <a:ea typeface="Arial"/>
              </a:rPr>
              <a:t>20.000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επενδυτικά σχέδια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50000"/>
              </a:lnSpc>
              <a:spcBef>
                <a:spcPts val="451"/>
              </a:spcBef>
              <a:spcAft>
                <a:spcPts val="1800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Ενίσχυση της πρόσβασης των ΜΜΕ σε κεφάλαια επενδυτικά και επιχειρηματικής ανάπτυξης μέσω χρηματοοικονομικών εργαλείων  (πάνω από 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  <a:ea typeface="Arial"/>
              </a:rPr>
              <a:t>6.30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επιχειρήσεις έχουν επωφεληθεί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50000"/>
              </a:lnSpc>
              <a:spcBef>
                <a:spcPts val="451"/>
              </a:spcBef>
              <a:spcAft>
                <a:spcPts val="1800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ροώθηση της έρευνας, της τεχνολογικής ανάπτυξης, της καινοτομίας και της ενσωμάτωσής τους στον παραγωγικό ιστό: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  <a:ea typeface="Arial"/>
              </a:rPr>
              <a:t>1.10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έργα με συμμετοχή ερευνητικών φορέων και επιχειρήσεων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1800" spc="-1" strike="noStrike">
                <a:solidFill>
                  <a:srgbClr val="417cb1"/>
                </a:solidFill>
                <a:latin typeface="Calibri"/>
                <a:ea typeface="Arial"/>
              </a:rPr>
              <a:t>1.304 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  <a:ea typeface="Arial"/>
              </a:rPr>
              <a:t>επιχειρήσεις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ου επωφελούνται από σχετικές δράσει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FF86-A109-478C-AE14-88598D2B85BE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C483-1668-4628-BC73-040D120EB20A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42920" y="404640"/>
            <a:ext cx="764712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Κυριότερα Αποτελέσματα από δράσεις ΕΤΠ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50000"/>
              </a:lnSpc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ροώθηση της εξοικονόμησης ενέργειας στις κατοικίες (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  <a:ea typeface="Arial"/>
              </a:rPr>
              <a:t>146.500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νοικοκυριά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50000"/>
              </a:lnSpc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Επέκταση και αναβάθμιση των υποδομών φυσικού αερίου και ηλεκτρισμού της χώρα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50000"/>
              </a:lnSpc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ναβάθμιση του τουριστικού προϊόντος: 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  <a:ea typeface="Arial"/>
              </a:rPr>
              <a:t>30.000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τουριστικές κλίνες εκσυγχρονίζονται ή δημιουργούντα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50000"/>
              </a:lnSpc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νάπτυξη και βελτίωση των τουριστικών και πολιτιστικών υποδομών, με στόχο την ποιοτική αναβάθμιση και την επιμήκυνση της τουριστικής περιόδου (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  <a:ea typeface="Arial"/>
              </a:rPr>
              <a:t>120 έργα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50000"/>
              </a:lnSpc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Διατήρηση και δημιουργία θέσεων άνω των 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  <a:ea typeface="Arial"/>
              </a:rPr>
              <a:t>100.00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θέσεων  απασχόληση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5EC3-1C45-4FCE-8BD1-21D57705DCBF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5772-75E5-48CC-A08D-E13DE69FCED2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187280" y="404640"/>
            <a:ext cx="750276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Κυριότερα Αποτελέσματα από παρεμβάσεις ΕΚ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e1f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90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τήριξη 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</a:rPr>
              <a:t>5.00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επιχειρηματικών σχεδίω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90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Δημιουργία 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</a:rPr>
              <a:t>6.000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θέσεων απασχόλησης  (νέων επιχειρηματιών και εργαζομένων στις νέες επιχειρήσει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90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Επαναπροσανατολισμός και κατάρτιση σε νέες ειδικότητες για </a:t>
            </a:r>
            <a:br>
              <a:rPr sz="1800"/>
            </a:br>
            <a:r>
              <a:rPr b="1" lang="el-GR" sz="1800" spc="-1" strike="noStrike">
                <a:solidFill>
                  <a:srgbClr val="417cb1"/>
                </a:solidFill>
                <a:latin typeface="Calibri"/>
              </a:rPr>
              <a:t>6.50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απολυμένους και απειλούμενους με ανεργί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90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ιστοποίηση προσόντων </a:t>
            </a:r>
            <a:r>
              <a:rPr b="1" lang="en-US" sz="1800" spc="-1" strike="noStrike">
                <a:solidFill>
                  <a:srgbClr val="417cb1"/>
                </a:solidFill>
                <a:latin typeface="Calibri"/>
              </a:rPr>
              <a:t>800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τόμων απειλούμενων με ανεργί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90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ναβάθμιση προσόντων για 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</a:rPr>
              <a:t>27.00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εργαζόμενους με θετικά αποτελέσματα υπέρ της εξωστρέφειας και της προσαρμογής των επιχειρήσεων στις νέες συνθήκες της αγορά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10B5-298B-4969-9392-D6DAB86D45F6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B41A-D201-4294-AFD3-F039CB9BB048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187280" y="620280"/>
            <a:ext cx="7499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Σημαντικότερα Προβλήματ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51"/>
              </a:spcBef>
              <a:spcAft>
                <a:spcPts val="1199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Χαμηλός βαθμός ανταπόκρισης του ιδιωτικού τομέα στις δράσεις άμεσης ενίσχυσης λόγω κρίσης και αβεβαιότητας του επιχειρηματικού περιβάλλοντος, σε συνδυασμό με την κρίση του τραπεζικού συστήματος και την έλλειψη ρευστότητα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51"/>
              </a:spcBef>
              <a:spcAft>
                <a:spcPts val="1199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Δυσκολίες στην αξιοποίηση των Ταμείων λόγω του αρνητικού οικονομικού  κλίματος,  των προβλημάτων του τραπεζικού τομέα και σε κάποιο βαθμό και της ίδιας της οργάνωσης και  λειτουργίας του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51"/>
              </a:spcBef>
              <a:spcAft>
                <a:spcPts val="1199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Καθυστερήσεις στις διαδικασίες ωρίμανσης, αξιολόγησης και εφαρμογής δράσεων Ε&amp;ΤΑ /Μειωμένη ανταπόκριση των επιχειρήσεω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51"/>
              </a:spcBef>
              <a:spcAft>
                <a:spcPts val="1199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Καθυστερήσεις σε υλοποίηση ενεργειακών έργων υποδομής λόγω σημαντικού χρόνου ωρίμανσης και ανάγκης τεκμηρίωσης τήρησης των κανόνων ανταγωνισμού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D0AF-5322-402A-8EF2-C6E37789A19D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62E8-FD8A-4B63-B8DF-BE0790F6D6BE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61920" y="549000"/>
            <a:ext cx="7786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Βασικές  Ενέργειε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Βελτίωση πλαισίου κινήτρων προς επιχειρήσεις και ωφελούμενους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(υψηλότερα ποσοστά ενίσχυσης, διεύρυνση επιλεξιμότητας ενεργειών και δαπανών, διευκολύνσεις στη χρηματοδότηση των έργων, κ.ά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υνδυασμός με χρηματοδοτικά εργαλεία για διευκόλυνση χρηματοδότηση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ναπροσαρμογή Οδηγών Εφαρμογής κρατικών ενισχύσεων με σκοπό την απλοποίηση και επιτάχυνση των διαδικασιών πιστοποίησης και εκταμίευσης,  παρατάσεις προθεσμιών υλοποίηση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νασχεδιασμός, αναπροσαρμογή και συνεχής παρακολούθηση των χρηματοοικονομικών εργαλείων (πχ εισαγωγή κεφαλαίου κίνησης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Καθιέρωση ηλεκτρονικής  υποβολής, αξιολόγηση, παρακολούθηση, πιστοποίηση και πληρωμή των έργων με αποτέλεσμα την επιτάχυνση και την αντικειμενικοποίηση  των διαδικασιών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υνεχής συνεργασία με τους εμπλεκόμενους σε όλα τα στάδια: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φορείς προγραμματισμού, ενδιάμεσους φορείς  διαχείρισης , δικαιούχου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5A64-CF2C-4C85-95C1-24337CAD4A0F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DC00-64F5-496C-BE0A-75235201DC27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15640" y="620640"/>
            <a:ext cx="74883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Συμπερασματικά  για  το  ΕΠΑΝ ΙΙ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9080">
              <a:spcBef>
                <a:spcPts val="60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ποτελεί κρίσιμο αναπτυξιακό εργαλείο και μέσο ουσιαστικής αντιμετώπισης της κρίση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19080">
              <a:spcBef>
                <a:spcPts val="60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Ο κεντρικός στόχος και η στρατηγική του παραμένουν επίκαιροι αποκτώντας καθοριστική κρισιμότητα για έξοδο από την κρίση και ανάκαμψ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19080">
              <a:spcBef>
                <a:spcPts val="60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Οι κρατικές ενισχύσεις αποτελούν σημαντικό μηχανισμό μόχλευσης, παρά τις δυσκολίες, με θετική συμβολή: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- στη βελτίωση των παραγωγικών  διαδικασιών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- στα οικονομικά μεγέθη (τζίρος εξαγωγές)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- στη διατήρηση της απασχόλησης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- στους επιμέρους στόχους (πχ προώθηση σε ξένες αγορές στην Εξωστρέφεια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6259-7309-4705-8389-C47D018B1C68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D762-1D07-459F-BDD4-7E363E5AE9E6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86920" y="620640"/>
            <a:ext cx="72723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Στόχοι  για…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Καλύτερη αντιστοίχιση με ανάγκες αλλά και προοπτικές επιχειρήσεων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εραιτέρω απλούστευση διαδικασιών, ευελιξία και στόχευση στο αποτέλεσμ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ξιοποίηση για συνδυασμό των χρηματοδοτικών εργαλείων, ώστε οι ενισχύσεις να είναι «σύνθετες» για να ανταποκρίνονται στο σύνθετο επενδυτικό σχεδιασμό των επιχειρήσεω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«Ανοιχτές» προκηρύξεις (οι επενδύσεις δεν μπορούν να ακολουθούν το συγχρονισμό των προκηρύξεων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εγαλύτερη έμφαση στην παρακολούθηση &amp; αξιολόγηση των δράσεων κατά την εφαρμογή και αποτίμηση των αποτελεσμάτω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67071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  <a:ea typeface="Tahoma"/>
              </a:rPr>
              <a:t>Δημοσιότητα - Προβολ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4 - Θέση περιεχομένου" descr="antagonistikotita-final.jpg"/>
          <p:cNvPicPr/>
          <p:nvPr/>
        </p:nvPicPr>
        <p:blipFill>
          <a:blip r:embed="rId1"/>
          <a:stretch/>
        </p:blipFill>
        <p:spPr>
          <a:xfrm>
            <a:off x="1309680" y="3457440"/>
            <a:ext cx="2376360" cy="3022560"/>
          </a:xfrm>
          <a:prstGeom prst="rect">
            <a:avLst/>
          </a:prstGeom>
          <a:ln w="9360">
            <a:solidFill>
              <a:srgbClr val="38b2a3"/>
            </a:solidFill>
            <a:miter/>
          </a:ln>
        </p:spPr>
      </p:pic>
      <p:sp>
        <p:nvSpPr>
          <p:cNvPr id="107" name="5 - TextBox"/>
          <p:cNvSpPr/>
          <p:nvPr/>
        </p:nvSpPr>
        <p:spPr>
          <a:xfrm>
            <a:off x="4140360" y="907920"/>
            <a:ext cx="4464000" cy="22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1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1700" spc="-1" strike="noStrike">
                <a:solidFill>
                  <a:srgbClr val="000000"/>
                </a:solidFill>
                <a:latin typeface="Calibri"/>
                <a:ea typeface="Tahoma"/>
              </a:rPr>
              <a:t>Έμφαση στην προβολή επιχειρηματιών που  υλοποίησαν με επιτυχία τα επενδυτικά τους σχέδια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1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alibri"/>
                <a:ea typeface="Tahoma"/>
              </a:rPr>
              <a:t>  </a:t>
            </a:r>
            <a:r>
              <a:rPr b="0" lang="el-GR" sz="1700" spc="-1" strike="noStrike">
                <a:solidFill>
                  <a:srgbClr val="000000"/>
                </a:solidFill>
                <a:latin typeface="Calibri"/>
                <a:ea typeface="Tahoma"/>
              </a:rPr>
              <a:t>Ανάδειξη θετικών προτύπων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1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alibri"/>
                <a:ea typeface="Tahoma"/>
              </a:rPr>
              <a:t>  </a:t>
            </a:r>
            <a:r>
              <a:rPr b="0" lang="el-GR" sz="1700" spc="-1" strike="noStrike">
                <a:solidFill>
                  <a:srgbClr val="000000"/>
                </a:solidFill>
                <a:latin typeface="Calibri"/>
                <a:ea typeface="Tahoma"/>
              </a:rPr>
              <a:t>Ενίσχυση διαφάνειας και προτροπή για συμμετοχή στις Προκηρύξεις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8 - Εικόνα" descr="video epitropis.jpg"/>
          <p:cNvPicPr/>
          <p:nvPr/>
        </p:nvPicPr>
        <p:blipFill>
          <a:blip r:embed="rId2"/>
          <a:stretch/>
        </p:blipFill>
        <p:spPr>
          <a:xfrm>
            <a:off x="1028880" y="981000"/>
            <a:ext cx="2966760" cy="19447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09" name="9 - Εικόνα" descr="10502144_254208251443861_6844370233449726043_n.jpg"/>
          <p:cNvPicPr/>
          <p:nvPr/>
        </p:nvPicPr>
        <p:blipFill>
          <a:blip r:embed="rId3"/>
          <a:stretch/>
        </p:blipFill>
        <p:spPr>
          <a:xfrm>
            <a:off x="4427640" y="3355920"/>
            <a:ext cx="3744720" cy="244944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10" name="3 - Εικόνα" descr="facebook.png"/>
          <p:cNvPicPr/>
          <p:nvPr/>
        </p:nvPicPr>
        <p:blipFill>
          <a:blip r:embed="rId4"/>
          <a:stretch/>
        </p:blipFill>
        <p:spPr>
          <a:xfrm>
            <a:off x="4680000" y="5950080"/>
            <a:ext cx="504720" cy="455400"/>
          </a:xfrm>
          <a:prstGeom prst="rect">
            <a:avLst/>
          </a:prstGeom>
          <a:ln w="0">
            <a:noFill/>
          </a:ln>
        </p:spPr>
      </p:pic>
      <p:pic>
        <p:nvPicPr>
          <p:cNvPr id="111" name="9 - Εικόνα" descr="twitter.png"/>
          <p:cNvPicPr/>
          <p:nvPr/>
        </p:nvPicPr>
        <p:blipFill>
          <a:blip r:embed="rId5"/>
          <a:stretch/>
        </p:blipFill>
        <p:spPr>
          <a:xfrm>
            <a:off x="5475240" y="5950080"/>
            <a:ext cx="504720" cy="455400"/>
          </a:xfrm>
          <a:prstGeom prst="rect">
            <a:avLst/>
          </a:prstGeom>
          <a:ln w="0">
            <a:noFill/>
          </a:ln>
        </p:spPr>
      </p:pic>
      <p:pic>
        <p:nvPicPr>
          <p:cNvPr id="112" name="10 - Εικόνα" descr="linkedin.png"/>
          <p:cNvPicPr/>
          <p:nvPr/>
        </p:nvPicPr>
        <p:blipFill>
          <a:blip r:embed="rId6"/>
          <a:stretch/>
        </p:blipFill>
        <p:spPr>
          <a:xfrm>
            <a:off x="6192720" y="5950080"/>
            <a:ext cx="505080" cy="455400"/>
          </a:xfrm>
          <a:prstGeom prst="rect">
            <a:avLst/>
          </a:prstGeom>
          <a:ln w="0">
            <a:noFill/>
          </a:ln>
        </p:spPr>
      </p:pic>
      <p:pic>
        <p:nvPicPr>
          <p:cNvPr id="113" name="11 - Εικόνα" descr="YouTube-logo-full_color.png"/>
          <p:cNvPicPr/>
          <p:nvPr/>
        </p:nvPicPr>
        <p:blipFill>
          <a:blip r:embed="rId7"/>
          <a:stretch/>
        </p:blipFill>
        <p:spPr>
          <a:xfrm>
            <a:off x="6769080" y="5686560"/>
            <a:ext cx="1187640" cy="982440"/>
          </a:xfrm>
          <a:prstGeom prst="rect">
            <a:avLst/>
          </a:prstGeom>
          <a:ln w="0">
            <a:noFill/>
          </a:ln>
        </p:spPr>
      </p:pic>
      <p:sp>
        <p:nvSpPr>
          <p:cNvPr id="114" name="Ορθογώνιο 1"/>
          <p:cNvSpPr/>
          <p:nvPr/>
        </p:nvSpPr>
        <p:spPr>
          <a:xfrm>
            <a:off x="971640" y="3284640"/>
            <a:ext cx="316872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ahoma"/>
                <a:ea typeface="Tahoma"/>
              </a:rPr>
              <a:t>www</a:t>
            </a:r>
            <a:r>
              <a:rPr b="1" lang="el-GR" sz="1800" spc="-1" strike="noStrike">
                <a:solidFill>
                  <a:srgbClr val="1f497d"/>
                </a:solidFill>
                <a:latin typeface="Tahoma"/>
                <a:ea typeface="Tahoma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Tahoma"/>
                <a:ea typeface="Tahoma"/>
              </a:rPr>
              <a:t>antagonistikotita</a:t>
            </a:r>
            <a:r>
              <a:rPr b="1" lang="el-GR" sz="1800" spc="-1" strike="noStrike">
                <a:solidFill>
                  <a:srgbClr val="1f497d"/>
                </a:solidFill>
                <a:latin typeface="Tahoma"/>
                <a:ea typeface="Tahoma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Tahoma"/>
                <a:ea typeface="Tahoma"/>
              </a:rPr>
              <a:t>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Ορθογώνιο 2"/>
          <p:cNvSpPr/>
          <p:nvPr/>
        </p:nvSpPr>
        <p:spPr>
          <a:xfrm>
            <a:off x="1403280" y="6021360"/>
            <a:ext cx="230508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1f497d"/>
                </a:solidFill>
                <a:latin typeface="Tahoma"/>
                <a:ea typeface="Tahoma"/>
              </a:rPr>
              <a:t>801 11 36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85F1-D890-4501-BB57-DEA83EE56415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B3A6-2FC8-4E39-9EF9-3D167BAF81DC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58560" y="907920"/>
            <a:ext cx="74278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Κύριος αναπτυξιακός στόχο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Η βελτίωση της ανταγωνιστικότητας και της εξωστρέφειας των επιχειρήσεων, καθώς και του παραγωγικού συστήματος της χώρας γενικότερα, με έμφαση στην καινοτομία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Τομείς παρέμβαση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Βιομηχανία - Μεταποίησ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Έρευνα και Τεχνολογί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Ενέργει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Τουρισμός και Πολιτισμό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Εμπόριο και Προστασία Καταναλωτ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8"/>
          <p:cNvSpPr/>
          <p:nvPr/>
        </p:nvSpPr>
        <p:spPr>
          <a:xfrm>
            <a:off x="1403280" y="5429160"/>
            <a:ext cx="701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100" spc="-1" strike="noStrike">
                <a:solidFill>
                  <a:srgbClr val="000000"/>
                </a:solidFill>
                <a:latin typeface="Arial"/>
                <a:ea typeface="Arial"/>
              </a:rPr>
              <a:t>Με τη συγχρηματοδότηση της Ελλάδας και της Ευρωπαϊκής Ένωσης - Ευρωπαϊκό Ταμείο Περιφερειακής Ανάπτυξης (ΕΤΠΑ), στο πλαίσιο του Ε.Π. Ανταγωνιστικότητα και Επιχειρηματικότητα (ΕΠΑΝ ΙΙ) και των Π.Ε.Π. Αττικής, Μακεδονίας - Θράκης, Κρήτης και Νήσων Αιγαίου, Θεσσαλίας - Στερεάς Ελλάδας - Ηπείρου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flag_2colors_ΕΤΠΑ"/>
          <p:cNvPicPr/>
          <p:nvPr/>
        </p:nvPicPr>
        <p:blipFill>
          <a:blip r:embed="rId1"/>
          <a:stretch/>
        </p:blipFill>
        <p:spPr>
          <a:xfrm>
            <a:off x="1547640" y="2760840"/>
            <a:ext cx="1243080" cy="1222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EPAN-LOGOS FINALplagioN copy"/>
          <p:cNvPicPr/>
          <p:nvPr/>
        </p:nvPicPr>
        <p:blipFill>
          <a:blip r:embed="rId2"/>
          <a:stretch/>
        </p:blipFill>
        <p:spPr>
          <a:xfrm>
            <a:off x="3481560" y="2717640"/>
            <a:ext cx="2027160" cy="1216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logo_YPAAN_new 2013_EYD_1"/>
          <p:cNvPicPr/>
          <p:nvPr/>
        </p:nvPicPr>
        <p:blipFill>
          <a:blip r:embed="rId3"/>
          <a:stretch/>
        </p:blipFill>
        <p:spPr>
          <a:xfrm>
            <a:off x="3132000" y="692280"/>
            <a:ext cx="3743640" cy="1331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logo_espa"/>
          <p:cNvPicPr/>
          <p:nvPr/>
        </p:nvPicPr>
        <p:blipFill>
          <a:blip r:embed="rId4"/>
          <a:stretch/>
        </p:blipFill>
        <p:spPr>
          <a:xfrm>
            <a:off x="6156360" y="2806560"/>
            <a:ext cx="2084400" cy="1097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16000" y="105264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Ειδική Υπηρεσία Διαχείριση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Επιχειρησιακού Προγράμματο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Ανταγωνιστικότητα και Επιχειρηματικότητα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» 2007-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(ΕΥΔ ΕΠΑ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Αγγελική Φέτσ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ΜΟΝΑΔΑ Α1 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Προγραμματισμού και Αξιολόγησης Ε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ww.antagonistikotita.g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9DE5-E8F5-4868-9B4B-6FDBBA4B0B5A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8339-7F2C-410C-A7FD-0E3EC815260C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42560" y="907920"/>
            <a:ext cx="76438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Άξονες Προτεραιότητα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Δημιουργία και αξιοποίηση της καινοτομίας υποστηριζόμενης από </a:t>
            </a: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έρευνα και τεχνολογική ανάπτυξ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Ενίσχυση της </a:t>
            </a: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Επιχειρηματικότητας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και της Εξωστρέφεια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Βελτίωση  </a:t>
            </a: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επιχειρηματικού περιβάλλοντο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Ολοκλήρωση του </a:t>
            </a: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ενεργειακού συστήματος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 της χώρας και ενίσχυση της αειφορία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4"/>
          <p:cNvSpPr/>
          <p:nvPr/>
        </p:nvSpPr>
        <p:spPr>
          <a:xfrm>
            <a:off x="7308720" y="1123920"/>
            <a:ext cx="142920" cy="576360"/>
          </a:xfrm>
          <a:custGeom>
            <a:avLst/>
            <a:gdLst>
              <a:gd name="textAreaLeft" fmla="*/ 0 w 142920"/>
              <a:gd name="textAreaRight" fmla="*/ 51480 w 1429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7554960" y="1125360"/>
            <a:ext cx="1409760" cy="71928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3,14 δις € Δ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755640" y="476280"/>
            <a:ext cx="648180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Διαθέσιμος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Προϋπολογισμός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ΕΤΠ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333399"/>
                </a:solidFill>
                <a:latin typeface="Calibri"/>
                <a:ea typeface="Arial"/>
              </a:rPr>
              <a:t>Π/Υ ΕΠΑΝ ΙΙ :                                                               </a:t>
            </a:r>
            <a:r>
              <a:rPr b="1" lang="el-GR" sz="1600" spc="-1" strike="noStrike">
                <a:solidFill>
                  <a:srgbClr val="0000ff"/>
                </a:solidFill>
                <a:latin typeface="Calibri"/>
                <a:ea typeface="Arial"/>
              </a:rPr>
              <a:t>1,71</a:t>
            </a:r>
            <a:r>
              <a:rPr b="0" lang="el-GR" sz="1600" spc="-1" strike="noStrike">
                <a:solidFill>
                  <a:srgbClr val="0000ff"/>
                </a:solidFill>
                <a:latin typeface="Calibri"/>
                <a:ea typeface="Arial"/>
              </a:rPr>
              <a:t> δις 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333399"/>
                </a:solidFill>
                <a:latin typeface="Calibri"/>
                <a:ea typeface="Arial"/>
              </a:rPr>
              <a:t>Π/Υ Εκχώρησης 2014 (με Δράση ΜΜΕ):         </a:t>
            </a:r>
            <a:r>
              <a:rPr b="1" lang="en-US" sz="1600" spc="-1" strike="noStrike">
                <a:solidFill>
                  <a:srgbClr val="333399"/>
                </a:solidFill>
                <a:latin typeface="Calibri"/>
                <a:ea typeface="Arial"/>
              </a:rPr>
              <a:t>      </a:t>
            </a:r>
            <a:r>
              <a:rPr b="1" lang="el-GR" sz="1600" spc="-1" strike="noStrike">
                <a:solidFill>
                  <a:srgbClr val="0000ff"/>
                </a:solidFill>
                <a:latin typeface="Calibri"/>
                <a:ea typeface="Arial"/>
              </a:rPr>
              <a:t>1,43</a:t>
            </a:r>
            <a:r>
              <a:rPr b="0" lang="el-GR" sz="1600" spc="-1" strike="noStrike">
                <a:solidFill>
                  <a:srgbClr val="0000ff"/>
                </a:solidFill>
                <a:latin typeface="Calibri"/>
                <a:ea typeface="Arial"/>
              </a:rPr>
              <a:t> δις 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1042920" y="5805360"/>
            <a:ext cx="7705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*</a:t>
            </a:r>
            <a:r>
              <a:rPr b="0" lang="el-GR" sz="1100" spc="-1" strike="noStrike">
                <a:solidFill>
                  <a:srgbClr val="000000"/>
                </a:solidFill>
                <a:latin typeface="Calibri"/>
                <a:ea typeface="Arial"/>
              </a:rPr>
              <a:t>Βάσει του Κανονισμού 1297/2013 το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top up (+10%) </a:t>
            </a:r>
            <a:r>
              <a:rPr b="0" lang="el-GR" sz="1100" spc="-1" strike="noStrike">
                <a:solidFill>
                  <a:srgbClr val="000000"/>
                </a:solidFill>
                <a:latin typeface="Calibri"/>
                <a:ea typeface="Arial"/>
              </a:rPr>
              <a:t>θα εφαρμοσθεί και κατά την ολοκλήρωση των Προγραμμάτων πάνω στην εγκεκριμένη Κοινοτική Συνδρομή (85%) για τις δαπάνες από 1/1/2010 και εξή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7740720" y="191628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7813800" y="2278080"/>
            <a:ext cx="107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p u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7524720" y="3430440"/>
            <a:ext cx="1409760" cy="71928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2,84 δις € Δ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17"/>
          <p:cNvGraphicFramePr/>
          <p:nvPr/>
        </p:nvGraphicFramePr>
        <p:xfrm>
          <a:off x="1187280" y="1916280"/>
          <a:ext cx="5848560" cy="358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16280"/>
                    <a:ext cx="5848560" cy="35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63D0-FDF1-4244-BF93-E4A86596EDB3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ABA7-71EA-4B6C-8FC6-B17E75E0D691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55280" y="549360"/>
            <a:ext cx="793116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Συνολικές Επιδόσεις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(Σεπτ. 201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Object 8"/>
          <p:cNvGraphicFramePr/>
          <p:nvPr/>
        </p:nvGraphicFramePr>
        <p:xfrm>
          <a:off x="755640" y="1341360"/>
          <a:ext cx="7704000" cy="47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704000" cy="47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4D77-77DF-4CE7-80E4-34FC9EFFCFC3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5B55-3E4B-45DB-8EE1-91A3BC1D9648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403280" y="549360"/>
            <a:ext cx="7283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Βασικές Κατηγορίες Δράσεων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ΕΥΔ ΕΠΑ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τοχευμένες κρατικές ενισχύσεις κυρίως για ΜΜΕ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τους τομείς μεταποίησης, τουρισμού, εμπορίο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Ιδιωτικές επενδύσεις μέσω Αναπτυξιακού Νόμο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Χρηματοδοτικά εργαλεία για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Δράση ενίσχυσης ΜΜΕ των ΠΕ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Ενίσχυση δράσεων έρευνας και τεχνολογία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Έργα επέκτασης και αναβάθμισης ενεργειακών υποδομών της χώρα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Έργα συμπλήρωσης /αναβάθμισης τουριστικών και πολιτιστικών υποδομών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Δράσεις εξοικονόμησης ενέργεια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χέδια για στήριξη επιχειρηματικότητας και ενίσχυσης απασχόλησης και για την προσαρμοστικότητα εργαζομένων και επιχειρήσεων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(μέσω ΕΚΤ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71640" y="404640"/>
          <a:ext cx="7921440" cy="5497560"/>
        </p:xfrm>
        <a:graphic>
          <a:graphicData uri="http://schemas.openxmlformats.org/drawingml/2006/table">
            <a:tbl>
              <a:tblPr/>
              <a:tblGrid>
                <a:gridCol w="4591080"/>
                <a:gridCol w="3330360"/>
              </a:tblGrid>
              <a:tr h="11332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Στοχευμένες Κρατικές Ενισχύσεις κυρίως για ΜΜ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Μεταποίηση στις νέες συνθήκε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7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518bbf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518bbf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7.050</a:t>
                      </a:r>
                      <a:r>
                        <a:rPr b="0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έργα, 925 εκατ. € </a:t>
                      </a:r>
                      <a:br>
                        <a:rPr sz="1800"/>
                      </a:b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(430 εκατ. € ΔΔ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2.000</a:t>
                      </a:r>
                      <a:r>
                        <a:rPr b="0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ολοκληρωμέ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328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καινοτόμες επιχειρηματικές δραστηριότητ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3.000</a:t>
                      </a:r>
                      <a:r>
                        <a:rPr b="0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νέες ή υπό σύσταση επιχειρήσε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ξωστρέφεια Ι και  Ι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Νέα Καινοτομική Επιχειρηματικότητ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ράσινες υποδομές &amp;  Πράσινη επιχείρηση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ναλλακτικός Τουρισμός  &amp; Πράσινος Τουρισμό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πιχειρηματικότητα στοχευμένων  ομάδων (νέων, γυναικών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Ένδυση- Υπόδηση  </a:t>
                      </a:r>
                      <a:br>
                        <a:rPr sz="1600"/>
                      </a:b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Εκσυγχρονισμός χερσαίων εμπορευματικών οδικών μεταφορώ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Μετεγκατάσταση επιχειρήσεων σε ΒΕΠΕ και Επιχειρηματικά Πάρκ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4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0C70-76BB-4DFD-970C-1EDA46EAE438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26920" y="260280"/>
          <a:ext cx="8172720" cy="6203880"/>
        </p:xfrm>
        <a:graphic>
          <a:graphicData uri="http://schemas.openxmlformats.org/drawingml/2006/table">
            <a:tbl>
              <a:tblPr/>
              <a:tblGrid>
                <a:gridCol w="4248360"/>
                <a:gridCol w="3924360"/>
              </a:tblGrid>
              <a:tr h="11332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- 4. Ειδικές Δράσεις για επιχειρήσει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Ιδιωτικές επενδύσεις στους τομείς Μεταποίησης, Τουρισμού, Εφοδιαστικής αλυσίδας και Ανανεώσιμων Πηγών Ενέργειας </a:t>
                      </a:r>
                      <a:br>
                        <a:rPr sz="1600"/>
                      </a:b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Επενδ. Ν. 3299/2004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518bbf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729</a:t>
                      </a:r>
                      <a:r>
                        <a:rPr b="0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έργα (συνολικά) </a:t>
                      </a:r>
                      <a:br>
                        <a:rPr sz="1600"/>
                      </a:b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2.490 εκατ. € (1.080 εκατ. € Δ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518bbf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54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νέες ή υπό σύσταση επιχειρήσει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518bbf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90</a:t>
                      </a:r>
                      <a:r>
                        <a:rPr b="0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έργα ΑΠ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Χρηματοδοτικά Εργαλεία για επιχειρήσει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ΤΕΠΙΧ </a:t>
                      </a:r>
                      <a:br>
                        <a:rPr sz="1400"/>
                      </a:b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άνεια γενικής επιχειρηματικότητας, για εξωστρέφεια, τουρισμό, πράσινες επενδύσεις, Επιχειρηματική επανεκκίνηση, Νησιωτική Επιχειρηματικότητα, Ταμείο Εγγυοδοσί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</a:t>
                      </a:r>
                      <a:r>
                        <a:rPr b="0" lang="el-GR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ΕΛΤΕΠ ΜΜ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Ταμείο Εγγυοδοσία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JEREMIE</a:t>
                      </a:r>
                      <a:r>
                        <a:rPr b="0" lang="el-GR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br>
                        <a:rPr sz="1400"/>
                      </a:b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Ταμείο επιμερισμού επιχειρηματικού κινδύνου, Μικροδάνει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518bbf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,09 δις € (ΔΔ)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εσμευμέν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518bbf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2,7 δις €</a:t>
                      </a:r>
                      <a:r>
                        <a:rPr b="1" lang="en-US" sz="1600" spc="-1" strike="noStrike">
                          <a:solidFill>
                            <a:srgbClr val="0e1f9e"/>
                          </a:solidFill>
                          <a:latin typeface="Calibri"/>
                          <a:ea typeface="Tahoma"/>
                        </a:rPr>
                        <a:t>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ιαθέσιμα κεφάλαια (μέσω ιδιωτικής μόχλευση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518bbf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Πάνω από 6.300 επιχειρήσεις</a:t>
                      </a:r>
                      <a:r>
                        <a:rPr b="0" lang="el-GR" sz="1600" spc="-1" strike="noStrike">
                          <a:solidFill>
                            <a:srgbClr val="0e1f9e"/>
                          </a:solidFill>
                          <a:latin typeface="Calibri"/>
                          <a:ea typeface="Tahoma"/>
                        </a:rPr>
                        <a:t>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κάνουν χρήση των εργαλείων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μέχρι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στιγμής για δανειακά κεφάλαια ύψους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700 εκατ.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«Ενίσχυση ΜΜΕ στους τομείς Μεταποίησης, Τουρισμού, Εμπορίου – Υπηρεσιών»  (μέσω των ΠΕ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3.415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έργ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,74 δις €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(ΔΔ 865 εκατ.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6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D6BE-B894-40B9-8503-15E3DEFBC4DB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971640" y="425520"/>
          <a:ext cx="7561080" cy="5837040"/>
        </p:xfrm>
        <a:graphic>
          <a:graphicData uri="http://schemas.openxmlformats.org/drawingml/2006/table">
            <a:tbl>
              <a:tblPr/>
              <a:tblGrid>
                <a:gridCol w="4581360"/>
                <a:gridCol w="2979720"/>
              </a:tblGrid>
              <a:tr h="1133280">
                <a:tc gridSpan="2"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Ενίσχυση δράσεων έρευνας και τεχνολογί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8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Συνεργασίες επιχειρήσεων με ερευνητικούς φορείς για έργα σε τομείς προτεραιότητα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6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νισχύονται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.100 αυτοτελή έργα Ε&amp;ΤΑ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μέσω των οποίων υλοποιούνται τα ακόλουθα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300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έργα συνεργασίας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644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πιχειρήσεων με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724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ρευνητικούς φορεί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5 </a:t>
                      </a:r>
                      <a:r>
                        <a:rPr b="1" lang="en-US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clusters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καινοτομίας, στα οποία συμμετέχουν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06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επιχειρήσεις και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4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ερευνητικά ινστιτούτ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39 καινοτόμες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επιχειρήσει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χορηγούνται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415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κουπόνια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καινοτομίας σε ΜΜ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400 ερευνητικοί φορείς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συμμετέχουν σε διμερείς και διεθνείς συνεργασίες με άλλες χώρες ή σε συνέργεια με ευρωπαϊκή πολιτική Ε&amp;Τ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νίσχυση για ανάπτυξη  Συνεργατικών Σχηματισμών </a:t>
                      </a: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usters)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έντασης γνώσης σε τομείς προτεραιότητα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Μικροηλεκτρονική/ ΤΠΕ/ Υγεία / Βιοιατρική/ Υλικά/ Ενέργεια/ Περιβάλλον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Νέες καινοτόμες επιχειρήσεις έντασης γνώσης </a:t>
                      </a:r>
                      <a:br>
                        <a:rPr sz="1600"/>
                      </a:b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in off – spin out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οστήριξη νέων ΜΜΕ &amp; ομάδων ΜΜΕ για δραστηριότητες Ε&amp;Τ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Κουπόνια Καινοτομίας σε ΜΜ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υρωπαϊκή και Διεθνής Συνεργασία στην Έρευνα και Τεχνολογί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8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61E5-90F4-40E0-915F-16284B1001FE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10:02:07Z</dcterms:created>
  <dc:creator>user</dc:creator>
  <dc:description/>
  <dc:language>en-US</dc:language>
  <cp:lastModifiedBy>Angeliki</cp:lastModifiedBy>
  <cp:lastPrinted>2014-09-17T13:39:59Z</cp:lastPrinted>
  <dcterms:modified xsi:type="dcterms:W3CDTF">2014-09-18T04:50:02Z</dcterms:modified>
  <cp:revision>921</cp:revision>
  <dc:subject/>
  <dc:title>Διαφάνεια 1</dc:title>
</cp:coreProperties>
</file>